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dt" idx="28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ftr" idx="29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 type="sldNum" idx="30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48FAB-4B7C-40AE-8CE9-17C94D867C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C30D8-2FBE-43AD-8544-DB6BD3AFAF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9DBE3-0FEA-43EE-AF8E-76152DB073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5DE4B-6792-462D-9B5A-816304FEC2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614B1-D0AB-4408-96A4-B9F4C91311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890F2-D755-4189-860D-2B9707A184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C4E1E-E491-476A-B1B3-E890092546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B2886-DBEE-4631-BFA5-1374399622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08BCD-D2B9-41FA-8FA6-FF2804A906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03BB9-3589-4D82-9C52-00A1B585EE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83116-9798-4298-AF53-509471AA99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63F5C-6264-4008-AFB4-F5C913C3C4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B0A9-B1D0-4360-B62C-ACAE9187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71F-98A7-4EC3-8E9E-9D3A6DF4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5A55D-23B9-43AE-862C-84982906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E8112-5A64-4B07-AF2B-B7E0AD1E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851AA-8E78-4260-BA87-15B4E5DF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3B96F-63F5-4414-8BD2-8FE1DD44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85E38-0349-49FC-AC8E-2E1845F8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BC028-1687-4377-9BCF-A4D68BC3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669B4-240A-432C-8D66-97411BEA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FBB30-B0DA-41AB-A3DF-852D7E8D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D55A4-CE6B-4FFF-9044-89521A94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205-5276-477A-B042-9A1AEECF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58E7-A107-4E21-93D9-0F254FB2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A6BB-2615-4B39-97F2-79217D79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B494-A0D0-449B-A133-F90756F9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D558-9C25-45FE-950D-0221ED59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BDEB-3CA8-4C26-A56A-7ABD1E7E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D251-B20E-4433-9105-779764F0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01AA-030D-43B5-AD4C-3F53ADA0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92B4-2A33-4695-AF12-7EFF6CB8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A5A-C143-49E0-B387-C1433871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69B5-7669-4003-838F-0F3E40DB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A40D-1B2E-4ED0-9192-5934F220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A12F-3EA6-4A7D-A88E-27D04E2D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9F4D-D59C-46CF-8E69-847C9EE0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8764-55B4-49D5-8746-AD8AE514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68768-781B-4B42-8F0E-F1272BE1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3C41E-AF4A-4E09-A2CC-3410515D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E6584-86DF-44BB-89DA-0CF7B4EA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38194-E052-4D56-BE4E-00022340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25FD5-1D7C-477F-9696-4EE8251C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D54-3D8C-4A66-9097-ADFED81D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318E4-EF70-4B54-ACF1-1FF6FA17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47E0A-F403-4EBF-9809-7C9BA924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68D44-8446-4DFE-A586-F6C1D114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23B2C-FCA6-48A9-9B7C-4D597010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E0FA6-BFAF-477D-819B-2505D739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47F65-BBFC-4292-8767-2D35EA4F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03875-7C94-4631-AC7E-5100C2B7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31A40-F7B4-445A-A63F-25C57A36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87FC8-8F78-4FC6-A4F1-2937F1A4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0B4DA-1CE5-4896-8109-D048FCCD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455-6EE2-4D05-A215-036E5652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AB3B8-708C-4515-A1B6-34DA5E6D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CB56E-7C4F-45C9-89A4-BEC26F33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3C1BB-4842-45EE-AEDE-01ECC011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DAB31-921E-4598-BB2F-F9F6736C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4A0A0-4912-45CD-9D6D-C7B0807C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E88E2-46F6-441C-A630-A84CCE86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92508-B824-4AF2-B6EB-C4AAD251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72F9B-636B-46E2-BCFE-2CBFAADE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A0910-9457-49B8-93D2-B9ADE086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77786-6EB8-4EF7-A184-EE301A0B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EDD-A530-4E1A-9790-2883D4C7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C15A9-B56F-41BF-A86B-949D9D76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C955F-4116-4343-B2EA-5153F79D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2AA1A-4C78-4CEF-895E-22BADACE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02FFA-152A-45E1-8E02-11944C01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CCD6A-05FB-45F8-9B1A-C984053C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7DBF4-65ED-4041-8F7D-77D9649C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647A9-248E-441E-8C71-3435526B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968C7-A553-4804-9D96-9DAE3A56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10095-28C5-4257-8E36-82EA882D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396AD-C26E-41C5-877A-4BF9B29F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73B-1964-40A9-9D2F-FFF40FFA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D0EC6-E667-4D9A-9051-B942FA2F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E0B75-56D9-4210-894A-1C765540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1CE19-96F3-4A11-8B80-4CB384DC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EF930-B335-498D-9E51-E5BD208D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15956-6303-46FA-900C-98811ADA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4FC46-C48A-4AF5-A62B-A0ECB92E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37DCE-C8F2-4C1C-8D3E-1F0AB6EA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5455F-A9E1-4565-AC1C-C59E1DEF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95FBB-2296-4A6C-9088-0B247E14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EB94C-6892-4063-8E9F-8C89FDF5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DE8-16AE-4796-9A4A-FB933759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2DC2C-3FBB-4DB2-A10A-6A5E9025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F237C-F84C-4461-86DB-DC2E76F5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8E9C1-CE79-4C8D-9B68-AB7E67B4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ADE8C-E458-4E78-89C9-DD9595E4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C98F1-C385-4E4C-902D-67982A38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133EE-AC28-4FE6-A546-D0FB8A7A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6AE56-1EA2-42E8-BD4C-D64C4100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B9BC8-DB39-4B88-8112-5A2C7232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EBBA8-1E7E-4C8B-9E04-9EC050AF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7DBDC-804C-4511-B331-27A708F6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C1DD-A7D4-4A15-9116-C37578FE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E7137-FD50-4AD6-98C0-2713BA90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2D5C6-2B83-48DB-9CDC-106D9F1A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C691A-656F-4CA4-A316-EE828F78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51F50-1FE2-4D89-BA8C-C93DB6DA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92A18-FBDE-44E5-A062-8DFBA24C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0CC1C-9F2E-48DC-86D4-2932059F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5A326-B24D-424C-9B1C-DA770053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AC404-86F1-40AF-B9FC-23E6C9A6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452A7-281D-4E1A-BF7C-92E9652A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6477E-1158-4E90-B21B-BBCA44E7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6FD0-82AD-4428-90F4-386928D6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014E3-C2A2-4172-ABF4-F8DCA531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F50E7-ADA0-4F86-B206-3BAD1224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2F4DE-5DAC-49CC-AA69-9A9C2105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760A6-B45A-4427-A722-27C916BE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91CA5-4A15-4BF1-959C-28A30B10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15885-96FF-4A6D-9DE0-296FEE98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CDB06-19A2-4EBF-B95D-CDFE760F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D8F84-C973-427B-A889-954DEE09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F7CA8-AE38-4E34-9DAC-566FB5DD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AE553-857A-4CCB-B83B-9B90286C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59B4F-FE11-406F-A216-3D416DAA9A7B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10080720" cy="566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653080"/>
            <a:ext cx="100807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5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6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90172-1F2D-489B-AD46-F502A80D8080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6A3E4-3ECC-46B3-B9A5-18E19BE5A03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10080720" cy="286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868480"/>
            <a:ext cx="100807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5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6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233C2-5FE9-4494-8260-B2C537524CEA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FA4531-BD5B-4BF2-9D3F-426AF241AE8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1BED2-6166-4B46-BD93-CD6CCA662919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147840" y="0"/>
            <a:ext cx="5112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147840" y="0"/>
            <a:ext cx="5112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507B0-90D0-4F2D-83E5-DB16DA4AE0EF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3147840" y="0"/>
            <a:ext cx="51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147840" y="0"/>
            <a:ext cx="51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81080" y="1290240"/>
            <a:ext cx="2782800" cy="22068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346560" y="1290240"/>
            <a:ext cx="5726160" cy="220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9192960" y="1290240"/>
            <a:ext cx="809640" cy="22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84690-D058-48B4-BD1D-03BEAE9898CF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7275600" y="0"/>
            <a:ext cx="4896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327800" y="0"/>
            <a:ext cx="2773440" cy="755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911320" y="7029360"/>
            <a:ext cx="4229280" cy="40320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3432D-2C8A-4601-BA36-DDC9F9C122ED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3F1FEE-A1DA-46D3-B1FF-C117F2B71B89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BBA7E-6047-4842-88AD-FBDA6075D443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0" y="1528560"/>
            <a:ext cx="9072720" cy="58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Support fo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Cloud Resolving Model Simul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VACET All-Hands Mee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IEEE Vis 200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Further work w/ Cray on optimizing mpi-io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Finalize data mod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cell/corner/edge/face centered data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alidate NetCDF-4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plugin enhancement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arallelizati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ncorporate morton-order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502920" y="1768320"/>
            <a:ext cx="9072360" cy="56109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olorado State Univ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Dave Randall, Ross Heike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NN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Karen Schuchardt, Bruce Palmer, Annette Koonz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LBN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Janet Jacobsen, Wes Bethel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ark Howis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Katie Antypas, John Shalf, Shane Can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team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502920" y="1767960"/>
            <a:ext cx="9072360" cy="50468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SciDAC/INCIT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I: Dave Randall (CSU)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2008 INCITE award at NERSC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ulti-institution collaboration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CSU researchers developing the climate simulati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NNL researchers developing the Data API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ACET researchers helping w/ Data model, Parallel IO and Vi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502920" y="1767960"/>
            <a:ext cx="9109080" cy="5888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atmospheric circulation mod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non-hydrostatic dynamical co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cloud microphysics, turbulence, radi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coupled to land-surface mod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3km grid-cell spac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Planned runs on 20K+ franklin cor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Planned 1:1 simulated:wall_clock ti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Data throughpu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~1TB/h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2GB/s aggregate IO performance require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~50M cells*100 layers, 16GB/variable, 50 variab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1" descr=""/>
          <p:cNvPicPr/>
          <p:nvPr/>
        </p:nvPicPr>
        <p:blipFill>
          <a:blip r:embed="rId1"/>
          <a:stretch/>
        </p:blipFill>
        <p:spPr>
          <a:xfrm>
            <a:off x="463680" y="652320"/>
            <a:ext cx="9082080" cy="7858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502920" y="1767960"/>
            <a:ext cx="9072360" cy="2819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Identify a data model for GCRM cod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Enable simulation code to do efficient parallel IO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ualization and Analysis on extremely large icosahedral meshe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502920" y="1767960"/>
            <a:ext cx="9072360" cy="34275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en-GB" sz="3500" spc="-1" strike="noStrike" baseline="33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 Phase: NetCDF-3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etadata convention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Icosahedral m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esh variables/layout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spcBef>
                <a:spcPts val="649"/>
              </a:spcBef>
              <a:buClr>
                <a:srgbClr val="e66c7d"/>
              </a:buClr>
              <a:buFont typeface="Arial"/>
              <a:buChar char="▪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ell/corner/edge/face centered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spcBef>
                <a:spcPts val="649"/>
              </a:spcBef>
              <a:buClr>
                <a:srgbClr val="e66c7d"/>
              </a:buClr>
              <a:buFont typeface="Arial"/>
              <a:buChar char="▪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satisfy VisIt plugin requirement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2</a:t>
            </a:r>
            <a:r>
              <a:rPr b="0" lang="en-GB" sz="3500" spc="-1" strike="noStrike" baseline="33000">
                <a:solidFill>
                  <a:srgbClr val="000000"/>
                </a:solidFill>
                <a:latin typeface="Corbel"/>
              </a:rPr>
              <a:t>nd</a:t>
            </a: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 Phase NetCDF-4 (HDF5)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502920" y="1767960"/>
            <a:ext cx="9072360" cy="563508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Need sustained 2+GB/s collective IO to single shared fil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urrent franklin performance ~0.3-1.2 GB/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Large number of IOR tests examining factor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O pattern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lustre strip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blocking/transfer size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#IO nodes, #OST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502920" y="1768320"/>
            <a:ext cx="9072360" cy="567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Issues identified with Cray's mpich implementation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ot sufficiently aware of OST strip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odifying HDF5 to align/pad to OST stripe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urrent best strategy is to us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2-phase IO (use aggregator nodes)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#IO nodes = #OSTs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Match file transfer size to stripe width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Simulate ‘file-per-process’ IO pattern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502920" y="1768320"/>
            <a:ext cx="9072360" cy="392328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plugin developed to load icosahedral NetCDF mesh data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reliminary custom visualizations rendered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Online tutorials and startup instructions published at: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http://vis.lbl.gov/~prabhat/Incite19/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1517760" y="0"/>
            <a:ext cx="73990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abhat</cp:lastModifiedBy>
  <dcterms:modified xsi:type="dcterms:W3CDTF">2008-10-17T18:33:11Z</dcterms:modified>
  <cp:revision>12</cp:revision>
  <dc:subject/>
  <dc:title>Slide 1</dc:title>
</cp:coreProperties>
</file>